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1878-E687-4109-8221-2A94C306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368E-58B4-4645-9F33-E58055B2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4AF7-BC1C-4645-876A-B3CB6F2B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7B2-695A-4838-9000-A3D45C66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1BE-03DE-4BBA-87E8-05B49F1A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2AB-4E52-4203-9F27-AB623E2F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004-39B0-46B9-A232-E798E0A6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C20-3550-45ED-9A7C-ABA741E7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F8B6-F690-4317-B39A-AF78F72E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B04-9BB7-476F-BCD5-74EDE735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B10-2315-4CA9-A037-32B402C3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FD0-102C-4146-8894-0292509B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6949-F471-406A-8079-1C66AA8BE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owl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dsb.on.ca/libraries/cat.asp?schoolNo=3440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ictionary.reference.com/browse/plagiaris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ing Credit Where Credit is Du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PA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Text 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uth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egener &amp; Petty, 1994)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o 5 auth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rnis, Cornell, Sun, Berry, &amp; Harlow, 1993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 citat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5+ auth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ernis et al., 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textboo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raser, LeDrew, Vavitsas, Whit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Mahon, 20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raser et al., 20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no author, etc…have a look at this excellent website for all of the specific detai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owl.english.purdue.edu/owl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” is the online writing lab at Purdue University in Ind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library websit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lots of useful information on citing sources as well as electronic resources for resear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dsb.on.ca/libraries/cat.asp?schoolNo=34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t or instance of using or closely imitating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gu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oughts of another author without authorization and the representation of that author’s work as one’s own, as by not crediting the original aut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rom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ctionary.reference.com/browse/plagiar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not plagiariz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credit where credit is du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if you paraphrase or summarize, if an idea is not your own, it should be clearly indicated from what source it 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A vs AP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A (Modern Languages Association) format is used mostly in the Huma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 (American Psychological Association) format is used mostly within the Social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A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 list should appear at the end of your report and be titled “References” (centered at the top of the p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lines after the first line of each entry should be indented one-half inch from the left margin (hanging ind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ntries should be listed in alphabetical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List: A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uthor, A. A. (Year of publication).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of work: Capital letter also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subtitl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Location: Publis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fee, R. C., &amp; Valencia, R. R. (199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A guide to preparing manuscrip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journal pub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Washingt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: American Psychological Assoc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textboo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ser, D., LeDrew, B., Vavitsas, A.,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-McMahon, M. (2012)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oronto, ON: Nelson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List: Internet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uthor, A. A., &amp; Author, B. B. (Date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ublication). Title of document. Retriev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om http://Web addres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i, E., Wagner, J., Lawrick, E., Moore, K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erson, M., Soderland, L., &amp; Brizee,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10, May 5). General format. Retriev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http://owl.english.purdue.edu/owl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/560/0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Text 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referring to an idea from another work b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ly quoting the material, or making reference to an entire book, article or other work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you only have to make reference to the author and year of publication and not the page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your in-text reference. All sources that are cited in the text must appear in the reference list at the end of the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03:36:27Z</dcterms:created>
  <dc:creator>rubina khan</dc:creator>
  <dc:description/>
  <dc:language>en-US</dc:language>
  <cp:lastModifiedBy>rubina khan</cp:lastModifiedBy>
  <dcterms:modified xsi:type="dcterms:W3CDTF">2012-10-09T14:21:09Z</dcterms:modified>
  <cp:revision>39</cp:revision>
  <dc:subject/>
  <dc:title>Giving Credit Where Credit is Due…</dc:title>
</cp:coreProperties>
</file>